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920-CF28-4AB6-84E6-8183D382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562-AEDC-45CA-86AE-23B668CB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09D-ADF8-4C15-B3DF-41462709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82C-B866-4B70-82F5-4D4E35A2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206E-A050-405D-8182-AC7F42E8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EE2-7975-47D6-AE03-50189E7B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6359-C481-489A-8561-0C5AB039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C0CD-13C7-4543-B946-36A17D21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68C5-F46D-4E94-A9F2-0A7C5CD5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938B-B271-427D-A2C5-233A8FFD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209-4D1F-4958-9E7C-5181523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7A1-A5F4-493F-8FB7-5EF4F806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84F6-85A1-4109-B5CA-A88D05C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3D30-185B-40FC-92D7-640ACB9B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4986-104A-4905-82C8-8278CFC0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D46E-0FA6-4E57-913C-20B120F3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8A6B-DCCB-486C-996A-3DE64193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5069A-E778-44C9-86EB-85322273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B2FBD-2239-4CFA-9E82-CC549594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27762-5AF3-4163-B724-D3C27BED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686CD-CA05-4931-8182-25174B71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3444D-913F-4FE0-99A4-D0F905C8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3B7-444C-42FB-9009-8D73D5BD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1A40A-8131-4594-B287-8DB84CF7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A21DD-6C8F-48C3-80C8-AC7343D3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BA88B-5A64-4579-888D-CEC27689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5351D-8654-497B-8003-BB9D3B4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153B9-4DF9-4A14-A667-EFBEB891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DF2A9-E7B6-44B3-ACD8-A257959A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03022-F751-4615-8E12-5D47E7B8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43A4-E5B5-4F1E-827E-CDCB8433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9079-60F5-491F-BCCC-82EB4C1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EAB6-64CE-4E28-A93C-7F3A587D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6CD-72D6-4C50-A2D6-55850ED2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BFE0-8673-40EC-BFB4-7067B9AB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1D49-F526-4B9B-B526-460A5594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4B4DD-1215-4359-A888-E0FD8CA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BE17F-8249-4E4A-9E7A-C87FFA0A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6DE9-A704-4966-A1B0-3AC4D58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FD8A-4810-46A1-8E57-EC1E882F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E908C-268B-43CA-8A7E-42BBE09B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E51F6-0966-4798-A173-2DD94983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DBE7-FD8C-4FCA-B802-8FC5B6DF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28F-BE53-47F5-93BA-59F12299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AC8-DB18-4884-A038-DC51FCB1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217-9170-44D5-98B9-545573F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8E4-3C2B-4719-AA2A-1EA04FDD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FA3-88C3-4592-AC98-1192391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F0E0-AC45-468D-971F-69859BB9CC44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14E3-D8F8-442E-969A-C8FC42189DC9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5702-FB7F-4EEE-A8A6-09C0DBF14A44}" type="datetime3">
              <a:rPr b="0" lang="en-US" sz="2400" spc="-1" strike="noStrike">
                <a:solidFill>
                  <a:srgbClr val="fefefe"/>
                </a:solidFill>
                <a:latin typeface="Century Gothic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A6BC-9426-4379-BD37-243DE5A64BB3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85EC-5DEA-4928-9E6D-E3DDAECFCF4F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804-DA73-44A6-AE03-3614A03D03DF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388E-36FD-4306-9036-C497AC429303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BC78-B8E7-4816-9F30-3127DD8226A8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h. 27 Warm-Up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What was Frederick Griffith’s contribution to our understanding of DNA? (Refer back to Ch. 16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ow do bacteria replicate?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20_02aGeneCloningPreview-L.jpg"/>
          <p:cNvPicPr/>
          <p:nvPr/>
        </p:nvPicPr>
        <p:blipFill>
          <a:blip r:embed="rId1"/>
          <a:stretch/>
        </p:blipFill>
        <p:spPr>
          <a:xfrm>
            <a:off x="596880" y="2089080"/>
            <a:ext cx="7958160" cy="37576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802800"/>
            <a:ext cx="702468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Using plasmids and bacteria in genetic engineering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20_02bGeneCloningPreview-L.jpg"/>
          <p:cNvPicPr/>
          <p:nvPr/>
        </p:nvPicPr>
        <p:blipFill>
          <a:blip r:embed="rId1"/>
          <a:stretch/>
        </p:blipFill>
        <p:spPr>
          <a:xfrm>
            <a:off x="630360" y="790560"/>
            <a:ext cx="7970760" cy="56674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3640" y="384120"/>
            <a:ext cx="3586320" cy="7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Gene Clon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3160" y="561600"/>
            <a:ext cx="340200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Transduc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3" name="Picture 3" descr="27_11Transduction_4-L.jpg"/>
          <p:cNvPicPr/>
          <p:nvPr/>
        </p:nvPicPr>
        <p:blipFill>
          <a:blip r:embed="rId1"/>
          <a:stretch/>
        </p:blipFill>
        <p:spPr>
          <a:xfrm>
            <a:off x="4249800" y="779400"/>
            <a:ext cx="4172040" cy="5618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786960" y="1139400"/>
            <a:ext cx="3979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Viruses (bacteriophages) carry bacterial genes from one host cell to anoth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Recombine DNA of donor and recipient cel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539280"/>
            <a:ext cx="702468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Conjuga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719280" y="1363320"/>
            <a:ext cx="775008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One cell donates DNA to anoth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Donors cell extend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sex pilus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 (“mating bridge”) through which DNA is transferred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Requires the presence of a piece of DNA calle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 factor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to produce the pilu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7" name="Picture 3" descr="27_12BactConjugation-L.jpg"/>
          <p:cNvPicPr/>
          <p:nvPr/>
        </p:nvPicPr>
        <p:blipFill>
          <a:blip r:embed="rId1"/>
          <a:srcRect l="0" t="14592" r="0" b="0"/>
          <a:stretch/>
        </p:blipFill>
        <p:spPr>
          <a:xfrm>
            <a:off x="2232000" y="3941640"/>
            <a:ext cx="46353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3823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ab 6A Warm-Up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16794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are plasmids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gene(s) are on the plasmid being used in this lab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79520" indent="-4158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w can we know if cells have been successfully transformed in this lab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Bacter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Chapter 27.2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1" name="Picture 4" descr="27_05ProkaryoticFimbriae-U.jpg"/>
          <p:cNvPicPr/>
          <p:nvPr/>
        </p:nvPicPr>
        <p:blipFill>
          <a:blip r:embed="rId1"/>
          <a:stretch/>
        </p:blipFill>
        <p:spPr>
          <a:xfrm>
            <a:off x="1893960" y="228600"/>
            <a:ext cx="5386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What you need to know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echanisms that contribute to genetic diversity in prokaryotes, including transformation, conjugation, transduction, and mutation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920" y="10267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Genetic Diversity in Prokaryote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Factor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Rapid reproduction (binary fission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utations – errors in replica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Genetic recombina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920" y="10267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4c600"/>
                </a:solidFill>
                <a:uFillTx/>
                <a:latin typeface="Century Gothic"/>
              </a:rPr>
              <a:t>Genetic Recombination in Bacteria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Transformation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: uptake of foreign DNA from surrounding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Transduction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: viruses transfer genes between prokaryot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Conjugation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: DNA transferred from one to anoth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9680" y="981000"/>
            <a:ext cx="398916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Transforma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9680" y="1639800"/>
            <a:ext cx="763884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048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Uptake of foreign DNA from surrounding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57040" indent="-2048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Observed by Griffith (bacteria &amp; mice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rcRect l="0" t="14197" r="0" b="0"/>
          <a:stretch/>
        </p:blipFill>
        <p:spPr>
          <a:xfrm>
            <a:off x="657360" y="2941560"/>
            <a:ext cx="3635280" cy="179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8" descr=""/>
          <p:cNvPicPr/>
          <p:nvPr/>
        </p:nvPicPr>
        <p:blipFill>
          <a:blip r:embed="rId2"/>
          <a:stretch/>
        </p:blipFill>
        <p:spPr>
          <a:xfrm>
            <a:off x="4549680" y="3278160"/>
            <a:ext cx="4029120" cy="30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8" descr="Draw circular plasmid maps with SimVector"/>
          <p:cNvPicPr/>
          <p:nvPr/>
        </p:nvPicPr>
        <p:blipFill>
          <a:blip r:embed="rId1"/>
          <a:stretch/>
        </p:blipFill>
        <p:spPr>
          <a:xfrm>
            <a:off x="5477040" y="4183200"/>
            <a:ext cx="2212920" cy="2173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280" y="450360"/>
            <a:ext cx="70246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Plasmid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60240" y="1225440"/>
            <a:ext cx="784728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Small ring of DNA that carries a few gen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Replicates separately from bacterial chromosom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Can carry genes for antibiotic resistanc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Used frequently in genetic engineering for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gene cloning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4" descr="http://4.bp.blogspot.com/_Xk5mq1MHTHM/TKB56q_jT7I/AAAAAAAAAR0/gKQN4qNa_cE/s1600/F7AFD_plasmid.jpg.jpeg"/>
          <p:cNvPicPr/>
          <p:nvPr/>
        </p:nvPicPr>
        <p:blipFill>
          <a:blip r:embed="rId2"/>
          <a:stretch/>
        </p:blipFill>
        <p:spPr>
          <a:xfrm>
            <a:off x="1504800" y="4748040"/>
            <a:ext cx="3202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5960" y="496800"/>
            <a:ext cx="702468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4c600"/>
                </a:solidFill>
                <a:uFillTx/>
                <a:latin typeface="Century Gothic"/>
              </a:rPr>
              <a:t>AP Bio Lab 6A - Transformatio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301760" y="1238400"/>
            <a:ext cx="67057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20:31Z</dcterms:created>
  <dc:creator>local</dc:creator>
  <dc:description/>
  <dc:language>en-US</dc:language>
  <cp:lastModifiedBy>Chris Nancy Chou</cp:lastModifiedBy>
  <dcterms:modified xsi:type="dcterms:W3CDTF">2012-01-12T07:14:46Z</dcterms:modified>
  <cp:revision>13</cp:revision>
  <dc:subject/>
  <dc:title>Bacteria</dc:title>
</cp:coreProperties>
</file>